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4E1F-A5D0-4352-8D94-781B3BA1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6E5A-9BC5-4656-AC2D-51EA6F0A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EC759-F13C-4774-9148-AA56BEAB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CF150-DC01-43D9-B2F8-089F070B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0CD9F-7EFC-4701-8CD6-7E7107E2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A79F7-A84E-4A99-AFC5-D2D5933F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225A1-58A5-4212-B9D6-517E9D71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20374-A3A7-4B29-B906-8EA673C5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35B2E-8C5E-491C-9725-45314EBA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5D298-D040-47A5-8261-040B18F79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9A602-E705-4A08-94CC-E9ABC94F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8499A2-C1E5-42B7-A110-3C9AC4D33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D07E-8BB0-497C-A274-78EE626B7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6995E-83F7-4A0C-A5FA-151BEB48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F3411-9496-4095-A5B0-2178AA77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02384-829A-44CB-B1CE-A444AE2E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5BA33-F5F5-4E14-843C-59F625DD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AB9D4-1C7A-4407-A20D-40450389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9FC0B-4617-474C-BE37-5C77E955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6BDE7-890E-4818-9959-32461FB4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6F2A1-F527-4971-A486-F927D459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CFBC3F-48B5-4BAE-BEAE-0BBCA2CE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BD834-DE42-4B2D-9FCD-E3727267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E9D2-0B1D-4A60-8A37-6EFA2B7E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451E7-1EE5-4B39-9D80-FD91FAD5C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B538F-791C-4014-BF28-1D2F49918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94137-7BFC-4702-B3D3-12172A4F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EF6F2-AD7D-4CDA-8029-4E4AEE4A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DFC11-5F0F-4198-BBAF-48976BA9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27161-A284-4288-9405-00B2DFC0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EBAD8-DD3B-4DC0-BD8D-2ED8D55E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7961E-A46A-42C4-A722-E0C93635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ED461-9F94-4EAE-B845-D3B08C25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658A5-17E4-4E07-ADAE-8E98BFD9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33AA-EAFE-4F0E-AF21-14E6E336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469EC-32DD-46C4-9E85-6C25C976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A5B84-57AD-428E-9ACB-A0DD789B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AE20C-CEB6-4B1E-B3D4-F3963B451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CD4E2-5049-447B-970B-13C9324B1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49F3D9-4B99-4C94-BB5E-087D42CA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866916-6EDF-409B-9ACA-76AECE5D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B1316-7A03-42A4-AD72-2BBB73AA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4670E3-A280-43DC-8F2C-6EF0E373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BE558F-40B6-4ED8-90A6-325C5640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5E60E3-24A4-4B1D-A98F-489947D8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3783-7E4E-4A6C-A57A-17A406CD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3BAD64-8987-4ACD-8F52-5810EC8C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5D95E0-CB79-4B38-AB7C-3492B165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29BC6-7BD4-487D-9815-01499372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DE756B-0494-4E76-BA8F-EC5564D27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D47B8B-2875-4E23-95FE-EF25BF8EB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5BC2-F1C4-48E7-8BD4-29CA7C21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3411-775A-4809-9399-77A6AFCA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BF8C-D575-4D54-9F9F-DB1A7A5F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78A9-7FCE-465F-A043-726498D7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FE6A-9854-4819-B45F-9D9CE163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7A78-B705-45C7-9878-6B7702EC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490D-0DE6-42B3-892B-61390FBD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2CAF-7FCB-4F13-ACD1-5757FA45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C2F9-BA70-4BC3-9976-E61B5F12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CBFD-8A62-42BE-AB39-439711DBA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0B03-BEBF-422F-8943-6CF271DAB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CA05C-12AF-4AB3-BBEE-9451D5BD2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6CFF8-AFE3-4F65-B47D-6A2FC5C7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CA355-0E3B-415D-8762-1F421663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137E1-A003-473F-9A5C-FE5DF225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01E2E-532A-40DD-8B2D-1F82C084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D583-21E9-46A6-BFC9-94EB6258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D1EC8-D73B-4F29-A753-41FAD409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7627E-34DC-40DE-B12F-B674D8D7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603A0-102C-4875-BAAF-A178CEF0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6A9E3-A7FB-49C7-A580-C11B0F30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D9E90-9670-4B5C-A1FB-9FA6A734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5D40F-527C-4848-A505-818FCFFD9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1BB5E-1ED9-40B4-8294-1E745FEA0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3F4F2-359D-4A80-A3FD-080462AB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F1E6D-EF2B-45A2-93C2-BAAEF266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1BD46-A9AC-4F59-8C16-91C4CC29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9208-9E46-4F18-9655-4F8C80FA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DDD84-B91F-4639-98F4-EC38AE9E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527E9-E839-4BDF-8417-FC49DC55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B1E52-B572-4414-97BA-76E5914D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81B89-0060-4ED7-92B7-08A55F97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B8634-4CC1-4706-AADB-D49EC078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40D6D-1BAA-472F-AFCD-8B19D746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7F9EF-4D4E-453C-BA73-6534DEF3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045AF-2673-4B2F-95A5-A6947F399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23DD0-E8A1-487D-AA65-33A2C908B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4AADC-70D1-4723-9F00-0E734B66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4333-92B4-4CDA-8947-86B48179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3376F-153B-454C-A213-E6FCB27A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A8709-46AA-4A83-ABA9-80D79224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A70C5-435C-49E5-A6A4-D424C131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EB0D9-6B37-4DE8-8724-5F441610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4D67E-7FA3-4CBE-8C39-D6DE41E5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F04D3-35D1-4F18-B095-EA8ADCA5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51734-7B79-4B97-BE2D-CE5A5778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F59F2-838A-4F5D-95BB-42D8B262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85C30-2CA0-4662-83C2-43A5F009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4D047-EE16-41C6-A465-D2E5E4D07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68B1-EE63-4CCC-A102-B8180140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CA5A4-052F-4F11-A5DB-CCE20484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5AFC9-03D4-4D4C-A1FB-B5B548FE7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D0279-7AF6-42AC-BA40-8734E269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68C8D-6F25-4B39-994D-44E4D1AD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F5C9C-C49A-401D-8878-18B7760B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D1058-093D-4B64-BC20-33780C89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4D000-10D7-4489-9974-B968A396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5220F-73DC-4652-A9AF-46B642B5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2DEBA-6DF9-44CF-AA86-59B66B01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1AD4F-C512-4883-8CF0-9DFF6C95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BD04-E357-4391-8BBD-44243BB5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A857E-E3F8-47F0-ACAE-397CC0C5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1A575-1215-446D-966D-BFE81A7E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D7258-1612-4645-9743-7F1E4FCB3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B296A-0918-4668-AE07-9FDE17E7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936F4-7357-42AC-B1CE-160E05A8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540C6-1228-4C44-9179-BCDD0FBE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AE812-F479-4E39-9037-C45276FA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7BE81-439C-4579-B165-A327C26F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EE15C-416D-42EB-BBDB-C8B07B29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E77E1-432A-4245-B5BE-A9124A4B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2117-3071-4B91-B0A0-3A2192BA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CCF93-1ACC-4BD0-8560-3BD1BCA8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3DC44-8053-44E0-975F-C1F45F28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05C46-4F72-4177-9774-DEEAD96D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8E217-66FF-4F37-9F11-DD30560FB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1B5A7-3B54-4A88-9D82-773393D4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6D4A8-7AF7-470B-B34C-790B6BDF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1844F-2DE7-4BEC-8BD3-FFCD2627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9CD99-FB22-4AFA-9B95-C0947D18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D2CC2-47AC-463D-ADF3-00D5F634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6DCAA-16DF-4B72-8B8B-449BF955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0E27-AC33-46D4-BA37-EBE80DD4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CECBB-7105-47F3-B688-D8F784BD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B1C7A-1735-47BF-8251-737F9AA2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AB76D-2313-4ABC-B13F-82C57D5E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4BFAA-AEC4-49EE-9A33-12BB2D11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C3536-4337-414D-9DB0-521FDBCB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7685C-FDAE-4300-A6CD-3831B769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79A02-02D2-4E03-9A52-5B9380391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FCA0D-EECD-49AE-88E4-CA1D99B4E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3ADB0-C9CE-49CA-BDDC-4FC5F77E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A1B25-0968-48FF-ADBB-5719C7C6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FA75-58E1-4997-A2EE-7130AB94196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D3B0-ED86-4EBF-A2D7-E8AC1140C33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329D-2C6A-4DA5-8CD6-4F02B426264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F8F0-691C-4CFE-92C1-0345E522322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23AE-BBAF-4B8F-9A25-6046F8FA389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BF61-BFE0-4043-BD56-6C592A48C6E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1D5C-0BCA-4AC1-A6D2-6D3B38F4F6A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9606-2B3C-4F83-A4D8-BDCACF6344F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1BB1-0E8E-4C84-B9D6-65A84ACF2F0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016C-6BA3-4161-8DA7-A3612182D9F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DD57-3C2D-4FD9-A6F9-8D0DEFAE259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D7A2-125F-4291-A948-264A344F521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84 Myslievam na ten č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ne náš, nemešk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ytrvať silu d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chod tvoj v nádeji čaká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si nás vykúp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d hriechu očist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tebe len s dôverou vzhliada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sie nás túžby let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ľúbený nový sve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nkom kde bud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h,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 hriechu, bolest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rteľných úzkost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znávať budeme spásy cieľ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yslievam na ten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neba keď zaznie hl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javí sa všemocný slávy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zemi blažené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ástupy spasené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ítať ho budú zo všetkých str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sie nás túžby let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ľúbený nový sve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nkom kde bud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h,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 hriechu, bolest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rteľných úzkost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znávať budeme spásy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vesta Kristov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 byť vždy hotov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vítať Ženícha slávne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ju sám pozdrav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lásky ju obdar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orunou života večné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sie nás túžby let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ľúbený nový sve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nkom kde bud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h,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 hriechu, bolest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rteľných úzkost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znávať budeme spásy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6-11T15:34:17Z</dcterms:modified>
  <cp:revision>22</cp:revision>
  <dc:subject/>
  <dc:title>Je veľký náš Pán, on slávy je Kráľ Nech do všetkých strán  spev vrúcnych znie chvál.</dc:title>
</cp:coreProperties>
</file>